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C4B-AB7C-40B2-BE85-8A96B68B46E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62120" y="5716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 of tabulating and coding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frequency and central tendency, and differentiate among mean, median, and m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variability, and differentiate among the range, quartile deviation, variance, and standard devi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central tendency are indices that represent a typical score among a group of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central tendency provide a way to describe a dataset with a singl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ree most common measures of central tendency are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: Appropriate for describing interval or rati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n: Appropriate for describing ordin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: Appropriate for describing nomin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an is the most commonly used measure of central tendenc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rmula for the mean 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 ∑X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 calculate the mean, all the scores are summed and then divided by the number of stud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dian is the midpoint in a distribution: 50% of the scores are above the median and 50% of the scores are below the media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termine the median, all scores are listed in order of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otal number of scores is odd, the median is the middle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otal number of scores is even, the median is halfway between the two middle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n values are useful when there is large variance in a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 is the most frequently occurring score in a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 is established by looking at a set of scores or at a graph of scores and determining which score occurs most frequ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 is of limited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istributions have more than one mode (e.g., bi-modal, or multi-modal distribu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Central Tend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ding among measures of central tend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the mean is most prefer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 takes all scores into acc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, however, is greatly influenced by extreme sc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re are extreme scores present in a distribution, the median is a better measure of central tend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0"/>
          <a:ext cx="12384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0"/>
          <a:ext cx="200160" cy="16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01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variability provide an index of the degree of spread in a distribution of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variability are critical to examine and report because some distributions may be very different but yet still have the same mean or medi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ommon measures of variability are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rtile dev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: The difference between the highest and lowest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nge is not a stable meas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nge is quickly determ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rtile Deviation:  One half the difference between the upper quartile and the lower quartile in a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subtracting the cutoff point for the lower quartile from the cutoff point for the upper quartile and then dividing by two we obtain a measure of vari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number indicates little variability and illustrates that the scores are close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major characteristics of normal and skewed distribu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d differentiate among measures of relative position, including percentile ranks and standard sc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d differentiate among two measures of relationship, the Pears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Spearman rh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ce: The amount of spread among scores.  If the variance is small the scores are close together.  If the variance is large the scores are spread 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ion of the variance shows how far each score is from the mea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rmula for the varianc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X–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deviation:  The score root of the vari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deviation is used with interval and ratio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deviation is the most commonly used measure of vari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Var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mean and the standard deviation are known, the distribution can be described fairly w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the standard deviation of a sample and the 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, the Greek lower case sigma) represents the standard deviation of the pop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variable is normally distributed then several things are true about the distribution of the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y percent of the scores are above the mean and 50% are below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, median, and mode have the sam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scores are near the mea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4.13% of the scores fall between the mean and one standard deviation above the mean and 34.13% of scores fall below the mean and one standard deviation below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68.26% of the scores fall within one standard deviation of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99% of the scores fall within three standard deviations above and below the me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50560" y="182880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wed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distribution is not normally distributed, it is said to be skew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kewed distribution is not symmetri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, median, and mode are not the sam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arther apart the mean and the median, the more skewed the distrib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ormal Cur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0560" y="182880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ewed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gatively skewed distribution has extreme scores at the lower end of the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&lt;Median&lt;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ositively skewed distribution has extreme scores at the higher end of the distrib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&gt;Median&gt;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689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ve position indicate where a score falls in the distribution relative to all the other sc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ve position indicate how well an individual has scored in comparison to others in the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ve position express different scores on a common sca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wo most frequently used measures of relative position a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centile ran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ard sco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ntile ranks indicate the percentage of scores that fall at or below a given sc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ntile ranks are appropriate for ordinal data and are also used for interval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centile rank of 50 indicates the median scor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ndard score uses standard deviation units to express how far an individual student’s test score is from the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a standard score reports how many standard deviations a given score is from the mean of a distrib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scores allow scores from different tests to be compared on a common scale and therefore allow for calculations on those 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procedures for describing, synthesizing, analyzing, and interpreting quantitativ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n is an example of a statist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can calculate statistics by hand or can use the assistance of statistical progra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, SPSS, and many other programs exist.  Some programs are also available on the Web to analyze datas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z-score is the most basic and most often used standard sco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z-score is directly tied to the standard devi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core that represents the mean has a z-score of 0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core at 1 standard deviation above the mean has a z-score of 1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vert a raw score to a z-score we use the following formula 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raw sco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X-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aracteristics of the normal distribution can be used to approximate where a score falls based upon a standard score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ve Pos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-score is a standard score sometimes used instead of a z-sco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-score is calculated by multiplying a z-score by 10 and adding 50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-scores transform the scores such that there are not negative values.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on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s of relationship indicate the degree to which two sets of scores are rela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statistical measures of relationship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ture of a given dataset dictates which measure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asures of Relation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rs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statistic used to calculate relationship for interval or ratio data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rs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to account every sc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rs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most stable measure of relationsh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rman rho is used to calculate relationship with ordinal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other tests of relationship for ordinal data (e.g., Gamma, Kendall’s tau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rman rho is most popu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ng Data is a critical step in analyzing any data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ariables should be grap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ng helps researchers to know their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packages make graphing data an easy ta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ng helps to identify any errors in a data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data are collected, the first step toward analysis involves converting behavioral responses into a numerical system or categorical organ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critical that all data are scored accurately and consist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coring should be double-checked for consistency and accuracy (i.e., at least 25% of all cases should be checked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-ended items should be scored by two scorers to check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data scoring and coding procedures should be documented and reported in the written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9706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instruments are scored, the resulting data are tabulated and entered into a spreadshe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ulation involves organizing the data systematically (e.g., by participa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4038480"/>
          <a:ext cx="7391520" cy="1981440"/>
        </p:xfrm>
        <a:graphic>
          <a:graphicData uri="http://schemas.openxmlformats.org/drawingml/2006/table">
            <a:tbl>
              <a:tblPr/>
              <a:tblGrid>
                <a:gridCol w="1087560"/>
                <a:gridCol w="1198440"/>
                <a:gridCol w="1447920"/>
                <a:gridCol w="1411200"/>
                <a:gridCol w="1014480"/>
                <a:gridCol w="1231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ing Data for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970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is potential dataset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 represents participant number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. is the experimental condition (1 or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der is represented by female=1; male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ievement (Ach) and motivation (Mot) were also variables asse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4038480"/>
          <a:ext cx="7391520" cy="1981440"/>
        </p:xfrm>
        <a:graphic>
          <a:graphicData uri="http://schemas.openxmlformats.org/drawingml/2006/table">
            <a:tbl>
              <a:tblPr/>
              <a:tblGrid>
                <a:gridCol w="1087560"/>
                <a:gridCol w="1198440"/>
                <a:gridCol w="1447920"/>
                <a:gridCol w="1411200"/>
                <a:gridCol w="1014480"/>
                <a:gridCol w="1231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data are tabulated and entered, the next step is to conduct descriptive statistics to summarize d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ome studies, only descriptive statistics will be condu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dices are calculated for a sample, they are referred to as statis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dices are calculated for the entire population, they are referred to as paramet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Descriptive Statist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requency refers to the number of times something occu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ies are often used to describe categorical da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ight want to have frequency counts of how many males and females were in a study or how many participants were in each condi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 counts are not as helpful in describing interval and ratio data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20T21:28:06Z</dcterms:modified>
  <cp:revision>104</cp:revision>
  <dc:subject/>
  <dc:title>AutoCAD Architecture 2008: Part I: Getting Started</dc:title>
</cp:coreProperties>
</file>